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F1C5-08D5-4E4F-9ED1-B1B56D01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6F57-97D2-435D-8F14-11BBF945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0779-5A04-437D-9986-AFBFD8B0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9186-7546-4F54-B9F2-348DC329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9738-0E67-4A4E-8B2E-4E1A545B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A804-4E36-4734-8FE1-325DCA39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8E3E-14E1-4F28-B64A-1BDDFC27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53EA-6E81-4695-BE75-D4205A85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ECE0-04C4-4528-AEFD-8DE80A81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46D0-1A40-4534-838D-CBBF6DEE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F1EE-2FE6-4541-BB6A-03E56A07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A43A-63DF-42CB-B880-84EA7E34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CB78-00BA-4C08-A04F-2B53300C5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27640" y="1484280"/>
            <a:ext cx="3051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zero and negative inte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602320" y="2529000"/>
            <a:ext cx="35416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fractions and decimals which can be represented by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72000" y="4329000"/>
            <a:ext cx="3402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dd irrational numbers such as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92720" y="5516640"/>
            <a:ext cx="356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imaginary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976640"/>
            <a:ext cx="287964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Numbers 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2587680"/>
            <a:ext cx="4176720" cy="8254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gers 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 … -3, -2, -1, 0,1, 2, 3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6000" y="3753000"/>
            <a:ext cx="4897440" cy="936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ational Numbers 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.g. 17, -10, 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½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 -0.65, 0.333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1376280"/>
            <a:ext cx="3132000" cy="8254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tural Numbers 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1, 2, 3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1640" y="5877000"/>
            <a:ext cx="3349800" cy="496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 Numbers 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06560" y="297000"/>
            <a:ext cx="712944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he Number System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873520" y="1441440"/>
          <a:ext cx="403200" cy="4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3520" y="1441440"/>
                    <a:ext cx="40320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755720" y="2637000"/>
          <a:ext cx="403200" cy="40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5720" y="2637000"/>
                    <a:ext cx="4032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2870280" y="3824280"/>
          <a:ext cx="441360" cy="47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70280" y="3824280"/>
                    <a:ext cx="4413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2511360" y="5006880"/>
          <a:ext cx="439920" cy="40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11360" y="5006880"/>
                    <a:ext cx="43992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089160" y="5950080"/>
          <a:ext cx="403200" cy="403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89160" y="5950080"/>
                    <a:ext cx="4032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595680" y="1665360"/>
            <a:ext cx="1697040" cy="269640"/>
          </a:xfrm>
          <a:prstGeom prst="rightArrow">
            <a:avLst>
              <a:gd name="adj1" fmla="val 50000"/>
              <a:gd name="adj2" fmla="val 157343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9411600">
            <a:off x="3755520" y="2276280"/>
            <a:ext cx="1630440" cy="269640"/>
          </a:xfrm>
          <a:prstGeom prst="rightArrow">
            <a:avLst>
              <a:gd name="adj1" fmla="val 50000"/>
              <a:gd name="adj2" fmla="val 151168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2673360"/>
            <a:ext cx="1265400" cy="270000"/>
          </a:xfrm>
          <a:prstGeom prst="rightArrow">
            <a:avLst>
              <a:gd name="adj1" fmla="val 50000"/>
              <a:gd name="adj2" fmla="val 117167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9411600">
            <a:off x="3958560" y="3429000"/>
            <a:ext cx="1630440" cy="270000"/>
          </a:xfrm>
          <a:prstGeom prst="rightArrow">
            <a:avLst>
              <a:gd name="adj1" fmla="val 50000"/>
              <a:gd name="adj2" fmla="val 150967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774600">
            <a:off x="4565160" y="4057560"/>
            <a:ext cx="1405080" cy="270000"/>
          </a:xfrm>
          <a:prstGeom prst="rightArrow">
            <a:avLst>
              <a:gd name="adj1" fmla="val 50000"/>
              <a:gd name="adj2" fmla="val 13010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0064400">
            <a:off x="3239640" y="4797360"/>
            <a:ext cx="2278080" cy="270000"/>
          </a:xfrm>
          <a:prstGeom prst="rightArrow">
            <a:avLst>
              <a:gd name="adj1" fmla="val 50000"/>
              <a:gd name="adj2" fmla="val 210933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734400">
            <a:off x="3276720" y="5408280"/>
            <a:ext cx="2124000" cy="270000"/>
          </a:xfrm>
          <a:prstGeom prst="rightArrow">
            <a:avLst>
              <a:gd name="adj1" fmla="val 50000"/>
              <a:gd name="adj2" fmla="val 196667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0064400">
            <a:off x="3712320" y="5913000"/>
            <a:ext cx="1716120" cy="270000"/>
          </a:xfrm>
          <a:prstGeom prst="rightArrow">
            <a:avLst>
              <a:gd name="adj1" fmla="val 50000"/>
              <a:gd name="adj2" fmla="val 15890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21:31:11Z</dcterms:created>
  <dc:creator>Trifon</dc:creator>
  <dc:description/>
  <dc:language>en-US</dc:language>
  <cp:lastModifiedBy>Trifon</cp:lastModifiedBy>
  <dcterms:modified xsi:type="dcterms:W3CDTF">2003-11-14T21:51:00Z</dcterms:modified>
  <cp:revision>2</cp:revision>
  <dc:subject/>
  <dc:title>Slide 1</dc:title>
</cp:coreProperties>
</file>